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4A9FD-D239-4ED6-B3FE-D1A41558221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CA543-10EE-432E-B79D-9A0D1F14789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B5D3-1EE6-4B8A-A43B-83C39F8C9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EF73-E752-4D8A-BDCC-3B7E65DC7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23A4-0CCA-40BB-B9A1-415D7B44A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ED76-BC5A-4C4D-8BFC-E12BAB33B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C711-7CA3-4A0F-ACF2-F87FBCA7C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BE65-1F46-4C9E-9165-9FF0A6DD5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101E-A14B-42D0-ACA1-1413201E6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1F57-23E3-4E2A-9867-05C712C21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FF1B-269F-48D4-BA0B-C9277ED67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96D5-3D18-4D40-BE01-2C17B5A0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A1DA-AC8B-4D86-A2E2-4EE61C6D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EC8C-F267-480E-9BFA-8876A3A2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Tento projekt je financován z prostředků ESF prostřednictvím Operačního programu Lidské zdroje a zaměstnanost a státního rozpočtu Č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FEBC7-E604-4B2D-B188-B823FF252EE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Barevné logo pro záhlaví ESF"/>
          <p:cNvPicPr/>
          <p:nvPr/>
        </p:nvPicPr>
        <p:blipFill>
          <a:blip r:embed="rId1"/>
          <a:stretch/>
        </p:blipFill>
        <p:spPr>
          <a:xfrm>
            <a:off x="900000" y="260280"/>
            <a:ext cx="7382160" cy="819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830088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oznámky: </a:t>
            </a:r>
            <a:br>
              <a:rPr sz="2000"/>
            </a:b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1.   obrázek s logy je třeba umístit do záhlaví každého slidu</a:t>
            </a:r>
            <a:br>
              <a:rPr sz="2000"/>
            </a:b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2.   do prezentace není možno umístit loga jiných subjekt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1"/>
          <p:cNvSpPr/>
          <p:nvPr/>
        </p:nvSpPr>
        <p:spPr>
          <a:xfrm>
            <a:off x="468360" y="6245280"/>
            <a:ext cx="8207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Tento projekt je financován z prostředků ESF prostřednictvím Operačního programu Lidské zdroje </a:t>
            </a:r>
            <a:br>
              <a:rPr sz="1100"/>
            </a:b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a zaměstnanost a státního rozpočtu Č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12:09:00Z</dcterms:created>
  <dc:creator>pekarj</dc:creator>
  <dc:description/>
  <dc:language>en-US</dc:language>
  <cp:lastModifiedBy>MPSV123</cp:lastModifiedBy>
  <dcterms:modified xsi:type="dcterms:W3CDTF">2013-11-21T11:24:03Z</dcterms:modified>
  <cp:revision>3</cp:revision>
  <dc:subject/>
  <dc:title>Poznámka: obrázek s logy je třeba umístit do záhlaví každého slidu</dc:title>
</cp:coreProperties>
</file>