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7B0-94C7-4CA6-A460-6804B41D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F79D-189A-4F6D-A763-4FA19E12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9A3-BAB4-490A-A9B6-11A88F961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6326-28EE-4533-8036-988BB53F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2D3-1050-424B-B5A2-447D75CE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49A4-CB45-439B-8535-6F2BC816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B9C8-FFAA-4A19-A57B-E7936FD4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A9F-E9A0-457E-8B79-6124769A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E489-2B60-406D-8C8D-25326B5D7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602C-423C-45F0-8575-AA85B7F8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D27-F5A7-4058-B721-7F5E973A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81F0-15A4-4323-A15F-E5D2B2BA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06CF-C4C9-4127-BA69-8DB0D66C6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382160" cy="819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30088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známky: 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  obrázek s logy je třeba umístit do záhlaví každého slidu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  do prezentace není možno umístit loga jiných subjek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2:09:00Z</dcterms:created>
  <dc:creator>pekarj</dc:creator>
  <dc:description/>
  <dc:language>en-US</dc:language>
  <cp:lastModifiedBy>pekarj</cp:lastModifiedBy>
  <dcterms:modified xsi:type="dcterms:W3CDTF">2009-08-14T05:40:16Z</dcterms:modified>
  <cp:revision>2</cp:revision>
  <dc:subject/>
  <dc:title>Poznámka: obrázek s logy je třeba umístit do záhlaví každého slidu</dc:title>
</cp:coreProperties>
</file>