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272F-6CCC-4687-AF2E-BEF6910DDD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69B8-2AD2-4323-AEA0-61EB22143A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1E8-8B69-499D-B6ED-B51DB3E5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F71-6462-4229-8695-9654E95F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446-10C6-4B0D-86D4-BE14FA55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4B6-F3E9-4763-9D0D-AC642576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7E1-6977-4CD1-AE97-BC7976E0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B98-222C-4E68-AE4B-0939B2F5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FB3-21CD-40DA-964F-D6E0F7BC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330-E953-49ED-8250-6E3776F3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95A-C199-4F93-8904-3D4B4F32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693-CB7A-4AFC-86CB-F90081E0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2A1-24F9-49F6-9798-FC6C155F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634-2EE6-4B37-BDCB-C5DAE78C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a zaměstnanost a státního rozpočtu Č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D475-A6FB-49CD-A42E-31192B2EB22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arevné logo pro záhlaví ESF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1"/>
          <p:cNvSpPr/>
          <p:nvPr/>
        </p:nvSpPr>
        <p:spPr>
          <a:xfrm>
            <a:off x="468360" y="624528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</a:t>
            </a:r>
            <a:br>
              <a:rPr sz="1100"/>
            </a:b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a zaměstnanost a státního rozpočtu Č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MPSV123</cp:lastModifiedBy>
  <dcterms:modified xsi:type="dcterms:W3CDTF">2013-11-21T11:24:03Z</dcterms:modified>
  <cp:revision>3</cp:revision>
  <dc:subject/>
  <dc:title>Poznámka: obrázek s logy je třeba umístit do záhlaví každého slidu</dc:title>
</cp:coreProperties>
</file>